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852EF-E12B-48A6-8061-A2CB0C63DC8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BD694-821F-4805-998C-7C22836FC38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43B2C-B2A9-4D1B-BD62-B3C294F7D5F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7974D-BB96-4A69-BA71-7E80D7B9FA0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FBD96-F8DB-4AB4-813A-D5BECF9F726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5952F-9516-4B30-BE2C-DA9EA9B0F0F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1AA6B-F3FB-4CD1-B25D-F462668C85D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25491-4C2E-4BC8-95BD-E96BA36460D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5D6B4-704F-4C8D-BFCF-3EE96354958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8D27A-7E36-4FC4-8225-1EE019D18F1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167DC-2B47-4B6B-9CC6-CE89730F409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37FAD-B42F-49DB-80FF-FA8138E7258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68AED-B900-486A-83BE-96D29B4DB90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6982C-D95B-4573-8567-0E395EF6883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C7B19-E71A-4301-B13C-E3DFF8D3338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DEAEC-F51F-4B77-8196-E584B746C34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6EFBA-0E23-4097-BBF4-74120CDA864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C17A4-12C5-4DB8-92FB-8EEA18BBD14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CC39E-4F44-4106-892A-C2E13AAACFB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CA8E1-A53A-4AFF-A1C4-9B09659B2BB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9D0C9-ACB0-48A9-9344-7CA14135F23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4F8E8-66A8-48B4-9E61-9A98B709538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094C-6C3F-46AD-8604-88EFD1262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0737-ADFE-40C3-BE68-E2E69D553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308D-05BF-4FC4-886C-9B8C91F49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034C-E06D-4EAE-A42C-D474055DE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24CD4-8CBC-4944-B456-0E334DBF6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DA03A-79E7-4418-B993-03905CB06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98B33-C0D4-49CA-A57B-2E3176179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FD738-E5BB-455A-BA37-4352DC0B0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8C041-DBE9-47A4-9662-01B045F42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21263-69BF-4FAD-ADB4-84BAD8FAE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1D455-A814-4AFA-BA57-1B7826FE2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7E50-9A4F-4123-B5C5-0486CD799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064C7-10F4-4AB3-9725-0522FA08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FCA05-7D1E-4394-BDCE-170D5432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8B73E-29FE-45E1-8C50-438C01AEC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A8570-CD0E-445A-A549-1DC3E78A9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95746-EE7B-499E-8966-6EFEEF197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7BE593-2936-40A5-8402-B6BEB0969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3F447C-2EAF-4A3F-A793-E25F54A62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B60260-7C6C-485A-86C4-9C681F5EC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BA2BEB-16B0-43C2-B50F-138AD2131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88380B-0554-4B45-B0F4-FDC4AE7BD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DCB8-43D4-46FA-A5C0-54C491E28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53EECE-9AF1-4E05-B04C-B6A18F430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AC7381-6B6A-489F-B60B-89656539F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D082E7-E039-42EB-9D48-DC0245EC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978451-4E8C-4A87-A54D-AAEEC9298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260A0C-F18F-4C37-A987-6CFDBD491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612011-EEA4-40C3-8681-0C86E2958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03C3CF-6B32-4A9D-BB7E-9810BB8C8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95632-5011-4753-9B49-923F9551F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2E4EF-06B0-40C7-850E-A91C9E78A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E886B-C5CA-428A-A3EE-D0EC2E61D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F55D-159B-4CA3-A5F4-34E10D810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288DD-4413-498F-9060-BE40F342B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1491F-937D-428E-8EE0-51943A7CF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6BD20-1FDC-4245-8CBF-6F8385C0B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11744-08EF-4DFF-AF2B-C4D03B6C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23439-3FAD-47AC-B75F-59721297C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E26E7-24FC-4F3E-9C92-AC3B0E7D3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B8698-53C3-4F9C-8C5B-89720F2E5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A7C0D-82B1-472D-B723-F991D75B3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C6EDC-387F-483B-956A-32B640FDF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F6B9-6A4F-4186-883F-DECCE928E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110E-996C-4EC2-81CF-80F54AC8B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36E6-AFF5-475E-8C96-9025B27CA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2D52-622F-4EA8-825D-583A82358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3DD0-4447-4BB9-A828-5AD86B330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438086"/>
                </a:solidFill>
                <a:latin typeface="Georgia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438086"/>
                </a:solidFill>
                <a:latin typeface="Georgia"/>
                <a:ea typeface="맑은 고딕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fffff"/>
                </a:solidFill>
                <a:latin typeface="Georgi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74F4B-CA72-47A5-942C-607E9ABCF973}" type="slidenum">
              <a:rPr b="0" lang="ko-KR" sz="2400" spc="-1" strike="noStrike">
                <a:solidFill>
                  <a:srgbClr val="ffffff"/>
                </a:solidFill>
                <a:latin typeface="Georgia"/>
                <a:ea typeface="맑은 고딕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직사각형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직사각형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직사각형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모서리가 둥근 직사각형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모서리가 둥근 직사각형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직사각형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438086"/>
                </a:solidFill>
                <a:latin typeface="Georgia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438086"/>
                </a:solidFill>
                <a:latin typeface="Georgia"/>
                <a:ea typeface="맑은 고딕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fffff"/>
                </a:solidFill>
                <a:latin typeface="Georgi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AEA99-435F-4AAB-BAF3-8B15C431F717}" type="slidenum">
              <a:rPr b="0" lang="ko-KR" sz="2400" spc="-1" strike="noStrike">
                <a:solidFill>
                  <a:srgbClr val="ffffff"/>
                </a:solidFill>
                <a:latin typeface="Georgia"/>
                <a:ea typeface="맑은 고딕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438086"/>
                </a:solidFill>
                <a:latin typeface="Georgia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438086"/>
                </a:solidFill>
                <a:latin typeface="Georgia"/>
                <a:ea typeface="맑은 고딕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fffff"/>
                </a:solidFill>
                <a:latin typeface="Georgi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F53A5-3CEA-4B97-9120-FE5D74FADD13}" type="slidenum">
              <a:rPr b="0" lang="ko-KR" sz="2400" spc="-1" strike="noStrike">
                <a:solidFill>
                  <a:srgbClr val="ffffff"/>
                </a:solidFill>
                <a:latin typeface="Georgia"/>
                <a:ea typeface="맑은 고딕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438086"/>
                </a:solidFill>
                <a:latin typeface="Georgia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438086"/>
                </a:solidFill>
                <a:latin typeface="Georgia"/>
                <a:ea typeface="맑은 고딕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fffff"/>
                </a:solidFill>
                <a:latin typeface="Georgi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66898-2D93-4C64-AF22-376412527C41}" type="slidenum">
              <a:rPr b="0" lang="ko-KR" sz="2400" spc="-1" strike="noStrike">
                <a:solidFill>
                  <a:srgbClr val="ffffff"/>
                </a:solidFill>
                <a:latin typeface="Georgia"/>
                <a:ea typeface="맑은 고딕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japanese-swords.gungfu.com/../../_vti_bin/shtml.exe/cnames/japanese-swords/index.htm/map2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ted.com/talks/view/id/53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Trebuchet MS"/>
              </a:rPr>
              <a:t>민주적 기술이 따로 있고</a:t>
            </a:r>
            <a:br>
              <a:rPr sz="4400"/>
            </a:br>
            <a:r>
              <a:rPr b="0" lang="ko-KR" sz="4400" spc="-1" strike="noStrike">
                <a:solidFill>
                  <a:srgbClr val="ffffff"/>
                </a:solidFill>
                <a:latin typeface="Trebuchet MS"/>
              </a:rPr>
              <a:t>억압적 기술이 따로 있는가</a:t>
            </a: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24456"/>
                </a:solidFill>
                <a:latin typeface="Georgia"/>
              </a:rPr>
              <a:t>현대 기술과 공학의 철학 </a:t>
            </a: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10</a:t>
            </a:r>
            <a:r>
              <a:rPr b="0" lang="ko-KR" sz="2400" spc="-1" strike="noStrike">
                <a:solidFill>
                  <a:srgbClr val="424456"/>
                </a:solidFill>
                <a:latin typeface="Georgia"/>
              </a:rPr>
              <a:t>주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2010</a:t>
            </a:r>
            <a:r>
              <a:rPr b="0" lang="ko-KR" sz="2400" spc="-1" strike="noStrike">
                <a:solidFill>
                  <a:srgbClr val="424456"/>
                </a:solidFill>
                <a:latin typeface="Georgia"/>
              </a:rPr>
              <a:t>년 </a:t>
            </a: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11</a:t>
            </a:r>
            <a:r>
              <a:rPr b="0" lang="ko-KR" sz="2400" spc="-1" strike="noStrike">
                <a:solidFill>
                  <a:srgbClr val="424456"/>
                </a:solidFill>
                <a:latin typeface="Georgia"/>
              </a:rPr>
              <a:t>월 </a:t>
            </a: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5</a:t>
            </a:r>
            <a:r>
              <a:rPr b="0" lang="ko-KR" sz="2400" spc="-1" strike="noStrike">
                <a:solidFill>
                  <a:srgbClr val="424456"/>
                </a:solidFill>
                <a:latin typeface="Georgia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24456"/>
                </a:solidFill>
                <a:latin typeface="Georgia"/>
              </a:rPr>
              <a:t>정동욱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사용 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vs. 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설계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사용에 따라 기술의 용도는 바뀔 수 있지만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br>
              <a:rPr sz="2800"/>
            </a:b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설계는 그 용도의 범위를 제한한다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칼의 용도는 설계에 의해 한정되어 있음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</a:t>
            </a:r>
            <a:br>
              <a:rPr sz="2600"/>
            </a:b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아래의 칼로 요리를 하기는 쉽지 않음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  <p:pic>
        <p:nvPicPr>
          <p:cNvPr id="246" name="Picture 4" descr="dragon-sword-se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4041720"/>
            <a:ext cx="261144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창닫기"/>
          <p:cNvPicPr/>
          <p:nvPr/>
        </p:nvPicPr>
        <p:blipFill>
          <a:blip r:embed="rId1"/>
          <a:stretch/>
        </p:blipFill>
        <p:spPr>
          <a:xfrm>
            <a:off x="611280" y="1844640"/>
            <a:ext cx="6753240" cy="67532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어떤 기술적 설계는 일차적으로 인간의 행동을 변화시키기 위한 목적을 명시적으로 가질 수 있다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이 경우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‘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사용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’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‘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사용자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’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의 개념은 불분명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과속방지턱의 사용자는 누구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정치적 목적이 반영된 설계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술의 설계에는 여러 목적이 고려되며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그 중에는 정치적 목적도 반영될 수 있다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사용에 따라 기술의 정치적 성격은 바뀔 수 있지만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설계는 그 정치적 성격의 범위를 제한한다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설계에 반영된 목적은 사용자가 의식적으로 고려하든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고려하지 않든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원하지 않든 구현될 수 있다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예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: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모제스의 낮은 터널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경우에 따라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설계는 쉽게 변경되기 어렵다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예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: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거대 도시 설계의 경우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데이비드 노블의 사례 연구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1940-50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년대 공작기계의 두 가지 발전 경로 존재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녹음재생 공작기계 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vs.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수치제어 공작기계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수치제어 공작기계의 사회적 선택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MIT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로봇 엔지니어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, GE,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공군의 의도가 주로 반영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노동자의 숙련 제거 의도 및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기계에 대한 신뢰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의도치 않은 귀결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너무 빠른 속도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통제의 어려움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노동자의 의욕 저하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1968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년 새로운 프로그램 도입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lnSpc>
                <a:spcPct val="9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53548a"/>
                </a:solidFill>
                <a:latin typeface="Georgia"/>
              </a:rPr>
              <a:t>노동자로 하여금 수치제어 공작기계 조작</a:t>
            </a:r>
            <a:endParaRPr b="0" lang="en-US" sz="2200" spc="-1" strike="noStrike">
              <a:solidFill>
                <a:srgbClr val="53548a"/>
              </a:solidFill>
              <a:latin typeface="Georgia"/>
            </a:endParaRPr>
          </a:p>
          <a:p>
            <a:pPr lvl="2" marL="922320" indent="-218880">
              <a:lnSpc>
                <a:spcPct val="9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53548a"/>
                </a:solidFill>
                <a:latin typeface="Georgia"/>
              </a:rPr>
              <a:t>수치제어 공작기계를 다루는 새로운 숙련 노동자 등장</a:t>
            </a:r>
            <a:endParaRPr b="0" lang="en-US" sz="2200" spc="-1" strike="noStrike">
              <a:solidFill>
                <a:srgbClr val="53548a"/>
              </a:solidFill>
              <a:latin typeface="Georgia"/>
            </a:endParaRPr>
          </a:p>
          <a:p>
            <a:pPr lvl="2" marL="922320" indent="-218880">
              <a:lnSpc>
                <a:spcPct val="9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53548a"/>
                </a:solidFill>
                <a:latin typeface="Georgia"/>
              </a:rPr>
              <a:t>노동자의 임금 상승</a:t>
            </a:r>
            <a:endParaRPr b="0" lang="en-US" sz="22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설계의 의도치 않은 정치적 효과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보도블록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계단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일반버스는 장애인 차별용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지하철 출입구의 설계는 왼손잡이 차별용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의도하지는 않았더라도 기술의 설계는 자신의 물리적 성격으로 인해 정치적 효과를 가질 수 있다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술의 정치성 대부분은 의도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+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비의도의 결과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뉴욕 도시 설계의 정치적 결과 중 일부는 의도된 것이지만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일부는 의도하지 않은 것임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모든 것을 모제스의 의도로 보는 것은 적절치 않음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알려진 정치적 효과의 처방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설계 변경을 통한 치료의 가능성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빗면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저상버스 등의 도입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좋은 설계는 기존 기술의 목적을 여전히 잘 수행함과 동시에 정치적 문제를 제거할 수 있어야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집단 간 이해관계 조정의 필요성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설계 변경이나 새로운 기술의 도입엔 비용이 듦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왜 비장애인이 장애인을 위해 값비싼 돈을 지불해야 하는가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?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왜 소수의 왼손잡이를 위해 공공시설의 설계를 헷갈리게 만들어야 하는가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?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예상치 않은 정치적 문제의 예방법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모르는 것을 어떻게 미리 막는가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많은 경우 몰라서가 아니라 생각지 않아서가 문제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!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설계 과정에 다수 의견 반영된다면 일부 예방 가능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랭던 위너의 주장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“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우리는 정치의 규칙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역할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관계에 기울이는 것과 똑같은 관심을 고가도로의 건설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텔레비전 네트워크의 창출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새로운 기계의 제작과 같은 것에 부여해야 한다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”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본질적으로 정치적인 기술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유연성을 허용하지 않는 종류의 기술이 있다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특정한 기술 시스템의 채택은 그 시스템의 작동을 보장하기 위하여 특정한 사회적 조건의 창조와 유지를 실제적으로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‘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요청한다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’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원자력 발전과 핵폭탄은 중앙집권적 사회를 요청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?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특정한 종류의 기술이 특정한 형태의 사회적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정치적 관계를 엄격하게 요청하기보다는 그것과 강력하게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‘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양립한다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’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태양력 발전은 분권적 사회와 잘 양립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?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기술의 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‘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요청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’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규모와 속도의 경제를 위한 거대 기술 시스템은 중앙집권적이고 위계적인 경영 통제를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‘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요청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’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하는가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?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아니면 그것과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‘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잘 양립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’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하는가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이 질문은 경험적 문제인가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?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분석적 문제인가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대안적 가능성이 존재하는가의 문제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!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랭던 위너의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‘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분석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’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에 따르면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원자력 발전은 중앙집권적 사회 외의 대안적 가능성이 존재하지 않음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그렇다면 한국의 민주주의는 원자력 발전에 의해 어떤 정치적 영향을 받았는가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?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이는 경험적 문제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!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스페인 이비에카 마을의 사례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1970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년대 초반 집집마다 수도물 공급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마을의 공공우물과 빨래터가 버려짐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활발한 사회적 상호작용의 장이 사라짐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민주주의와 자치에 대한 중대한 위협으로 인식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편리함 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vs.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공동체 해체라는 파우스트적 거래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우리가 던져야 하는 질문은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수도냐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?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아니면 공동체냐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?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꼭 둘 중 하나만 선택해야 하는가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?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수도와 공동체를 양손에 쥘 수 있는 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“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기술적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”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방법은 없을까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?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공동체 해체가 꼭 수도 때문일까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?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기존 공동체 유지는 꼭 바람직한가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?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기술이 정치적 성격을 가지는가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자동차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발전소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트랜지스터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컴퓨터 속에서 </a:t>
            </a:r>
            <a:br>
              <a:rPr sz="2800"/>
            </a:b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자유와 억압 또는 선과 악을 찾는 헛된 질문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정치적 성격은 기술 자체에 있는 것이 아니라 </a:t>
            </a:r>
            <a:br>
              <a:rPr sz="2800"/>
            </a:b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그것을 사용하는 인간에 있는 것이 아닌가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칼이 본질적으로 악한 성격을 가진 것이 아니라</a:t>
            </a:r>
            <a:br>
              <a:rPr sz="2600"/>
            </a:b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칼을 살인에 사용한 사람이 악한 것 아닌가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칼은 요리를 하거나 종이를 자르기 위해서도 </a:t>
            </a:r>
            <a:br>
              <a:rPr sz="2600"/>
            </a:b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사용될 수 있지 않은가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도시 설계에 관한 강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7afbd"/>
                </a:solidFill>
                <a:uFillTx/>
                <a:latin typeface="Georgia"/>
                <a:hlinkClick r:id="rId1"/>
              </a:rPr>
              <a:t>http://www.ted.com/talks/view/id/53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과제물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원자력 발전이 권위주의적인 사회를 요청한다는 랭던 위너의 견해를 한국의 사례를 참고로 비판적으로 검토하라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바람직하지 않은 정치적 효과를 가진 기술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또는 설계방식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을 찾아 그것이 정치적 효과를 만들어내는 방식을 설명하고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그 문제의 해결책을 검토하라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해결에 걸림돌이 있다면 그것들도 명시하라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인터넷이 보다 확장된 민주주의를 가져올 것이라는 주장을 비판적으로 검토하라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랭던 위너의 기술의 정치성 옹호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2771280" y="2249640"/>
            <a:ext cx="591516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설계나 배치에 의해 정치적인 기술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설계나 배치에 특정한 정치적 의도가 담겨 있거나 의도치 않았더라도 그 설계나 배치가 특정한 정치적 효과를 발휘하는 경우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본질적으로 정치적인 기술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특정한 설계나 배치에 상관없이 특정한 종류의 정치적 관계를 요구하거나 그것과 밀접하게 양립할 수 있는 경우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  <p:pic>
        <p:nvPicPr>
          <p:cNvPr id="227" name="Picture 2" descr="Langdon Winner"/>
          <p:cNvPicPr/>
          <p:nvPr/>
        </p:nvPicPr>
        <p:blipFill>
          <a:blip r:embed="rId1"/>
          <a:stretch/>
        </p:blipFill>
        <p:spPr>
          <a:xfrm>
            <a:off x="611280" y="2421000"/>
            <a:ext cx="220032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사람들을 분리하거나 결합하는 사회적 패턴은 정치적 제도와 관행뿐만 아니라 강철과 콘크리트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전선과 트랜지스터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너트와 볼트에도 존재한다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”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2" name="Picture 2" descr="http://www.mcny.org/images/content/8/8/88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296120"/>
          </a:xfrm>
          <a:prstGeom prst="rect">
            <a:avLst/>
          </a:prstGeom>
          <a:ln w="0">
            <a:noFill/>
          </a:ln>
        </p:spPr>
      </p:pic>
      <p:sp>
        <p:nvSpPr>
          <p:cNvPr id="233" name="TextBox 4"/>
          <p:cNvSpPr/>
          <p:nvPr/>
        </p:nvSpPr>
        <p:spPr>
          <a:xfrm>
            <a:off x="250920" y="260280"/>
            <a:ext cx="53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  <a:ea typeface="맑은 고딕"/>
              </a:rPr>
              <a:t>Robert Moses and the Modern C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맑은 고딕"/>
              </a:rPr>
              <a:t>Cross Bronx Expressway, The Bronx, 2006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맑은 고딕"/>
              </a:rPr>
              <a:t>Photograph by Andrew Moore. © Andrew Moore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4" descr="http://web.jjay.cuny.edu/~history/amsterdamwebexhibit/buildingamsterdamhouses/RobertMoses.jpg"/>
          <p:cNvPicPr/>
          <p:nvPr/>
        </p:nvPicPr>
        <p:blipFill>
          <a:blip r:embed="rId1"/>
          <a:stretch/>
        </p:blipFill>
        <p:spPr>
          <a:xfrm>
            <a:off x="-396720" y="0"/>
            <a:ext cx="979776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66978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Robert Moses (1888-1981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e “master builder” of mid-20th century 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New York City, Long Island, Rockland County, and Westchester County, New York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Moses’s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 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Parkway to Jones Beach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2ft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높이의 버스가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통과할 수 없는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9ft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터널들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카로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&amp;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위너의 주장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터널의 설계에 빈민과 흑인의 존스 비치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접근을 막기 위한 모제스의 정치적 의도 반영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8" name="Picture 6" descr="bathing"/>
          <p:cNvPicPr/>
          <p:nvPr/>
        </p:nvPicPr>
        <p:blipFill>
          <a:blip r:embed="rId1"/>
          <a:stretch/>
        </p:blipFill>
        <p:spPr>
          <a:xfrm>
            <a:off x="4284720" y="4338720"/>
            <a:ext cx="4248000" cy="25192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" descr="parkway"/>
          <p:cNvPicPr/>
          <p:nvPr/>
        </p:nvPicPr>
        <p:blipFill>
          <a:blip r:embed="rId2"/>
          <a:stretch/>
        </p:blipFill>
        <p:spPr>
          <a:xfrm>
            <a:off x="826920" y="4319640"/>
            <a:ext cx="338472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사실 관계에 대한 논란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모제스는 정말 인종주의자인가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? 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모제스는 정말 인종 및 계급 차별적인 의도에서 터널을 낮게 설계했는가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증거 불충분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.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미국의 다른 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parkway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들도 트럭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버스 등의 상업용 차량 진입 금지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.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모제스는 관행을 따랐을 뿐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흑인과 빈민은 정말 존스 비치에 접근할 수 없었는가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여러 교통망으로 접근 가능했지만 가지 않았을 뿐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그럼에도 모제스의 도시 개발 취향 강하게 반영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대중교통보다 자가용 교통망 분명히 선호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.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고속도로를 도시 관통하도록 설계하여 일부 지역 파괴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교외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-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중산층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중심부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-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빈민 구조의 현대 뉴욕을 만든 주범으로 지목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다른 사례들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나폴레옹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세의 파리 거리 재정비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960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년대 대학 캠퍼스 내 건축물들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980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년대 서울대 아크로의 장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880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년대 시카고 사이러스 매코믹 </a:t>
            </a:r>
            <a:br>
              <a:rPr sz="2800"/>
            </a:b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수확기 제조공장의 공기 주형 기계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공장의 기술 중에는 생산 효율 증가의 목적 이외의 목적을 가진 경우도 상당함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2T07:51:09Z</dcterms:created>
  <dc:creator>zolaist</dc:creator>
  <dc:description/>
  <dc:language>en-US</dc:language>
  <cp:lastModifiedBy>zolaist</cp:lastModifiedBy>
  <dcterms:modified xsi:type="dcterms:W3CDTF">2010-11-04T13:40:53Z</dcterms:modified>
  <cp:revision>71</cp:revision>
  <dc:subject/>
  <dc:title>민주적 기술이 따로 있고 억압적 기술이 따로 있는가?</dc:title>
</cp:coreProperties>
</file>